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B7EC3-7F4E-49EC-B82C-C658C77BF3A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F8945-43EA-4C4F-BCF7-A5CF4A96AD8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32A-E692-4050-8311-E9F44B53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020-B629-4171-877E-DCD34E70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BDF-8A44-4E23-A029-04B5F28F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BD4-3ABD-452B-B320-D37CF1BA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A80-AEBC-4E53-A253-352D9C9E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13A-3F8F-4864-A71E-EFB3008B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6A5-7A79-4B5A-BE69-082AEB6C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859-198E-4B27-B82C-12EE17FA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30D-267A-4EEC-95E2-74FF353A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CC6-CFD5-4712-B653-01E35C36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900-E2CD-4A99-A86D-682C1147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6A3-6BAC-4550-BA1C-2B1F1803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191C5-B898-4AA6-8339-9629FE7BDC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70E65-C937-4D6F-B61D-FD89B3814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argyle@nationalcapitalregionymca-ywca.ca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merivale@nationalcapitalregionymca-ywca.ca" TargetMode="External"/><Relationship Id="rId3" Type="http://schemas.openxmlformats.org/officeDocument/2006/relationships/hyperlink" Target="http://www.ymca-ywca.ca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OpeningSlide_forEEN.jpg"/>
          <p:cNvPicPr/>
          <p:nvPr/>
        </p:nvPicPr>
        <p:blipFill>
          <a:blip r:embed="rId1"/>
          <a:stretch/>
        </p:blipFill>
        <p:spPr>
          <a:xfrm>
            <a:off x="-4680" y="0"/>
            <a:ext cx="9196200" cy="691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4476600" y="4689360"/>
            <a:ext cx="45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Y Employment Access Cen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eorgia"/>
              </a:rPr>
              <a:t>Last revised October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urce Centre works on a walk-in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r email to register for worksho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n Employment Consultant available for drop-in intakes everyday on a first-come first-served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ment Consultants will refer clients to the most appropriat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set up specific appointments by phone or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ow to Register or Re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2440" y="1676520"/>
            <a:ext cx="630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Formal Refer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52440" y="1676520"/>
            <a:ext cx="63054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YEAC makes official referrals to the following programs/agen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SEB-Ontario Self Employment Benefits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JCP-Job Creation Partnerships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C-Second Career / FeePayer / Long Tenured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Practice Firms (Experica or Canad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BS-Literacy and Basic Ski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cclaim Abil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ntario March of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useway Work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nadian Hearing Society (Job Develop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 Matching, Placement &amp;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52440" y="1676520"/>
            <a:ext cx="630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dividual support from a Job Developer with job search, network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Information on Health and Safety in the workplace and Workers’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lp matching job seekers’ skills and interests with job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pport with securing apprentice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Possibility of Apprenticeship schola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Possibility of on-the-job training pla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Help with identifying and resolving workplace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/Training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52440" y="2108160"/>
            <a:ext cx="6305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Support for long-term attachment or advancement in the labour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Access to mentors and c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Monitoring of mentor/coach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Development of a support plan to enhance employability and job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Monitoring and follow-up of work pla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123840" y="533520"/>
            <a:ext cx="854064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ervices for Emplo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52440" y="1676520"/>
            <a:ext cx="617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e distribution and advertisement of job post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-screened candidates for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nsitivity and diversity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le wage/training subsidy for new 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tching of appren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ility of Apprenticeship Signing Bo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nitoring of placements during/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me and money sa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ace for hosting of information sessions or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ticipation in large Career 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Location and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52440" y="1814400"/>
            <a:ext cx="617544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entral Ottawa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80 Argyle Avenue, 4th Fl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l: 613-788-500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argy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ww.ymca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nday-Tuesday ~ 8:30 am - 4:3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ednesday-Thursday ~ 8:30 am - 7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riday ~ 8:30 am - 4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Location and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52440" y="1814400"/>
            <a:ext cx="645804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West Ottawa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rivale Mall,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Fl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l: 613-688-21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meriva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3"/>
              </a:rPr>
              <a:t>www.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nday-Tuesday ~ 8:30 am – 7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ednesday-Thursday ~ 8:30 am – 4:3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riday ~ 8:30 am – 4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*Note: This temporary location will officially open Novemb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Other EE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52440" y="2108160"/>
            <a:ext cx="63054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terprise Cent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ntario Self-Employment Benefit Program (S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deral Public Sector Youth Internship Program (FPSY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uth Gambling Awareness Project (YG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nguage Assessment and Referral Centre (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wcomer Information Centre (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Counselling Centers (YE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Kanata Employment Resource Centr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KE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Ontario Self Employment Benefi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2440" y="1790640"/>
            <a:ext cx="63054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nancial assistance provided to eligible participants for a fixed period of time while starting a new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ccess to business related seminars and one-on-one support from a business consul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ferral required, possible through the YE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Federal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Public Sector Youth Internship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6320" y="1798560"/>
            <a:ext cx="63244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in practical work experience through a paid internship and placement with a mentor for youth within the Federal 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ceive one-on-one support from an Employment Counsellor during the inter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National Capital Region YMCA-YWCA is a charitable, voluntary, community based association dedicated to improving the quality of life for children, youth, adults and families through programs that build spirit, mind and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National Capital Region YMCA-YWCA provides opportunities for personal growth and character development by providing unique and contemporary programs for everyone regardless of race, religion, creed, ability or economic circum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YMCA-YWCA</a:t>
            </a: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 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Kanata Employment Resource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76320" y="1798560"/>
            <a:ext cx="6324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mployment resource centre with information on labour market, apprenticeships, retraining and communit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rkshops facilitated include Resume Writing, Job Search and Interview Techniques along with Employer Informatio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Language Assessment &amp; Referral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6320" y="1798560"/>
            <a:ext cx="632448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anguage Assessments in English or French, based on the Canadian Language Benchmarks (CL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ferrals to language training in English or French, such as LINC/CLIC (Language Instruction for Newcomers to Canada), ELT/CLNA (Enhanced Language Training) and OSLT/FLAP (Occupation Specific Language Tr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epending on eligibility, access to FREE childcare, transportation allowance, full time and part time classes, beginner to advanced levels as well as employment focused language training and progr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Newcomer Information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76320" y="179856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6320" y="1935000"/>
            <a:ext cx="6324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formation and referral services for newcomers to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source Centre with access to computers, community information, events and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ultilingual staff and community settlement specialists 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arious workshops and information sessions facilitated by NIC staff, community partners and leaders, professional associations and employ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Youth Gambling Awarenes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6320" y="1798560"/>
            <a:ext cx="6324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vention and education programs to help promote  awareness of possible harm associated with gam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ty awareness outreach in various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erral to treatm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76320" y="179856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MPj04395360000[1]"/>
          <p:cNvPicPr/>
          <p:nvPr/>
        </p:nvPicPr>
        <p:blipFill>
          <a:blip r:embed="rId2"/>
          <a:stretch/>
        </p:blipFill>
        <p:spPr>
          <a:xfrm>
            <a:off x="733320" y="2679840"/>
            <a:ext cx="525780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eorgia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6320" y="179856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YSigColour-BilPC"/>
          <p:cNvPicPr/>
          <p:nvPr/>
        </p:nvPicPr>
        <p:blipFill>
          <a:blip r:embed="rId2"/>
          <a:stretch/>
        </p:blipFill>
        <p:spPr>
          <a:xfrm>
            <a:off x="352440" y="2108160"/>
            <a:ext cx="582120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BW-Tag"/>
          <p:cNvPicPr/>
          <p:nvPr/>
        </p:nvPicPr>
        <p:blipFill>
          <a:blip r:embed="rId3"/>
          <a:stretch/>
        </p:blipFill>
        <p:spPr>
          <a:xfrm>
            <a:off x="1266840" y="4292640"/>
            <a:ext cx="3524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nded in Ottawa in 18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MCA &amp; YWCA amalgamated in 19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vider of licensed child care since 1890 – largest in Can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1942 started Carleto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nding member of United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rst to introduce residence camping in Eastern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Counselling Centres open in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b Connects opens in 2005 at NC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CC and JC fuse and become YEAC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YMCA-YWCA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Y Employment Enterprise and Newcomer Services (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81160" y="1809720"/>
            <a:ext cx="63482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Access Centres (E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terprise Cent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ntario Self-Employment Benefit Program (S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deral Public Sector Youth Internship Program (FPSY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Kanata Employment Resource Centre (KE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nguage Assessment and Referral Centre (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wcomer Information Centre (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uth Gambling Awareness Project (YG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What is the Y Employment Access Cent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2440" y="1979640"/>
            <a:ext cx="617544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YEAC is an employment program that offers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E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rvices to job seekers and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EAC is a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Employment Ontario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program funded by the Ontario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fers a variety of interventions to assist Ontarians with obtaining sustainable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various services to employers who are licensed to operate in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he Components of Employme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52440" y="2108160"/>
            <a:ext cx="634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) Information &amp; Refer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) Job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) Job Matching, Placement &amp;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) Job/Training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Information &amp; Referral (I&amp;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52440" y="2108160"/>
            <a:ext cx="6305400" cy="51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ree public resource cent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ccess to current job pos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omputers with Internet access and résumé soft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axing, printing, phone and photocop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Various employment related worksh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pprenticeship program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formation and referral to various community progra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sumé critiquing and interview prepa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articipation in large Career Fai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Distribution of job postings by e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*there is no eligibility criteria for these 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 Search/Employment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2440" y="2108160"/>
            <a:ext cx="63054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Eligibility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Not in full-time school/training (more than 20 hours/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employed or working less than 20 hours/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igible to work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Resident of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2440" y="1676520"/>
            <a:ext cx="63054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ndividualized support and meetings with an Employment Consult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ssistance and coaching in resumé development, job search and networking strategies, interview preparation, career exploration and mo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larification on employment and training nee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Establish short and long term go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evelop an Employment Service Pla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upport and referral with Second Career and other funded MTCU progra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ccess to the Ottawa Job Match Network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*for those who qualif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50:59Z</dcterms:created>
  <dc:creator>Andrew Jordan</dc:creator>
  <dc:description/>
  <dc:language>en-US</dc:language>
  <cp:lastModifiedBy>aholmes</cp:lastModifiedBy>
  <dcterms:modified xsi:type="dcterms:W3CDTF">2011-07-08T18:57:31Z</dcterms:modified>
  <cp:revision>22</cp:revision>
  <dc:subject/>
  <dc:title>Slide 1</dc:title>
</cp:coreProperties>
</file>